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C06-6475-40C8-8502-C57564B0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8BD-AC53-485F-827A-A3E58D7D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459-3BEB-46F0-975D-CC8E4733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208-B283-4553-8210-EFB95042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A599-090B-4E32-9E31-BD8244CC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7646-89C4-4C9E-A8F0-AC48DCD8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8A1D-1C49-45C6-A4AC-CE7BA639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7CF4-397C-424B-8E58-5B427FB6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9A28-C40F-4036-B6CC-E759AD9B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7B22-219F-49A8-837D-AFB7209E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9CAA-B062-4DA5-A6BB-27E78A92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32F-34D3-46E8-93C2-98CDBFB8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85AE-C745-4824-B86F-6C92BB19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C5AC-2022-42B3-B809-F0499FDA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900D-A35D-4488-9107-4C491D79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7F8B-A7F1-4266-9C1C-13BDFA25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D445-6FD6-460B-B471-B2FAC304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EBAAF-D6BD-47E9-B526-EADAEC2C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D56B-2F59-42C5-A6FA-4313C0C3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72BBC-5C21-4C00-9F45-D76F1C1B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7BC0-6E9C-4D61-8CD1-991FAC71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2D47-C523-4BA2-97C5-F8C95A95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47D-5CEF-49B7-ACE0-7076FBD6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B23C2-42C5-4483-9447-58D50975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00772-70C4-4CE7-8D8F-E01A50AC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6C275-2C17-431E-ADCF-7E911A1E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4F6F-CADA-4F01-94D0-3530809A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546AC-489D-4FB1-AC73-C145BF73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227F-5F60-46CA-BD37-98650C26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51B4B-E907-482E-B7AC-00DE30CA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004BE-6541-48A6-90E7-411F40E8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8969C-3AF6-4E0A-B26F-7D35EAEB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C5514-87E9-4E34-91E9-7C000BAA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0DE-098F-4B26-9580-8C785C83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C7B80-72C0-4E3B-871D-2AB08760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C80EB-2247-4E29-8B7F-58CF0767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7F96C-B3FA-417E-B53B-3378E25E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D21B1-D496-444F-A1D5-56970635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600B1-E423-444D-86A6-2138057B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86DD3-54B5-471C-B889-2305D0CB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CD9FD-E05F-4BA0-8F5B-DB2079D7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FF98-8A4C-4307-ADC0-71B7CD9B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00F4F-6DD7-411C-BA03-EA65C8F7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72416-7442-46E9-9891-2A9F2C2E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ACB-EFCD-48AD-A223-91AFD893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9EB91-08D7-4D1C-8121-13E17B7A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1F037-2EE6-4F98-B6CA-D06ED505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6A9EB-3A55-49E0-9893-ADC203A8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6458-7997-448D-A02C-EC64CE4B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E2D36-4DB6-4CC3-9939-D7F01E86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CE00A-820B-417B-8BFA-453171A9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5F0DC-F072-41FF-AD8F-38E8AEF0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5C978-098C-4498-B454-4D6FE381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E61C9-A00F-4132-B95D-29FA9F2F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F3445-0EA7-4DF7-9306-5670C20D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CFC-35A1-4E8E-B570-DCAF758A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A615E-B899-4284-81C2-F8C89057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82B56-1911-4AD8-B38A-F34B0B76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EBF2C-3348-4135-828D-F39B05CC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8DD47-4C33-472D-A548-6AE95E64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DC4DA-7037-4870-94A5-5F17CBCF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1EFE6-70F7-458B-A3E6-D859F35F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46631-3FAC-4FBF-80C2-65E2E8A5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A633A-5180-4579-BD33-AB5A38A9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8BF25-CCB3-4D47-BE9B-44BC8B2D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49AC5-BF5A-47E7-8AB0-C37DC06C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77C-6208-40C9-BE0A-CD9F42B5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2D8D2-9893-4E40-BEC5-08339D58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01FAE-9095-4957-9F64-4446DDA2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51421-1CC8-49F1-8518-11C477A6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932A0-47DA-4995-B22A-F87540B0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5204E-00A9-4DC4-9843-8EED01EF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7E2CB-62C7-4D28-8677-E2310F4B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0FDFC-8DFA-4DF3-BF17-040931D1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92F68-51B9-4563-BBFF-AE14A0E6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D0C4B-09CE-4ABE-B160-5FC492A4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7A1FA-2B6F-44B8-87C2-CC59E031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6311-F775-4018-9F26-91686BE1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7AF13-934B-467F-BFBC-DA08187F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03502-3863-4DDD-8622-73449D5A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671A1-20CB-4E57-8CC5-E79D0621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7DF92-7E7D-4D34-865E-1C00E3A6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525EC-C9A6-47C7-9782-E0BAFE36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D2F-D699-4FDD-8C80-7730DA1B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7D10F-F69A-40A9-AC2D-948A79C1394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58E1E-1FEF-4016-AA73-34706B368DC3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6F8E7-03BF-46DF-8247-8653948E2AF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D80D5-BEF2-4C06-97CD-91FB275156C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CB6DE-1D17-4BB8-BCD4-1EFBAA76336F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99AC0-9A29-42AD-9A0A-D07AC47160B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9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17725-FCC8-425A-B65F-E8E2EB265AF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74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78920" cy="1841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http://www.right2write.co.uk/Images/OCR_logo.gif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15080" y="5423040"/>
            <a:ext cx="2428920" cy="1434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Ghealthbenefits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3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42560" cy="933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152280" y="798480"/>
            <a:ext cx="601992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7dd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V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ss high cholest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scle hypertro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steopor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ve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rength res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Fu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Stress releas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Moral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Disciplin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Communication / team work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4724280" y="22860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Century Gothic"/>
              </a:rPr>
              <a:t>Nega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Immune system – open wind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Injuries – cruci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arthrit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5008320" y="4711680"/>
            <a:ext cx="2837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b46d0"/>
                </a:solidFill>
                <a:latin typeface="Century Gothic"/>
              </a:rPr>
              <a:t>Band on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425680"/>
            <a:ext cx="8407440" cy="1494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www.right2write.co.uk/Images/OCR_logo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669000" y="5396040"/>
            <a:ext cx="2475000" cy="1461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41440" y="1963800"/>
            <a:ext cx="80611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Gstrengths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ed + acceler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fflining ball/tim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otwor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king the ba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-offering – changing dire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ilit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 ski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tting up a zo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TextBox 4" descr=""/>
          <p:cNvPicPr/>
          <p:nvPr/>
        </p:nvPicPr>
        <p:blipFill>
          <a:blip r:embed="rId11"/>
          <a:stretch/>
        </p:blipFill>
        <p:spPr>
          <a:xfrm>
            <a:off x="4730760" y="371520"/>
            <a:ext cx="3133800" cy="1292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41440" y="1963800"/>
            <a:ext cx="80611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gweaknesses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48805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0796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ac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atial awarenes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ee play ball/catch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entra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nd eye co-ordina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ke line on C pas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or reaction tim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mina making easier to sco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cking ski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est pass no powe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TextBox 3" descr=""/>
          <p:cNvPicPr/>
          <p:nvPr/>
        </p:nvPicPr>
        <p:blipFill>
          <a:blip r:embed="rId12"/>
          <a:stretch/>
        </p:blipFill>
        <p:spPr>
          <a:xfrm>
            <a:off x="4809960" y="139680"/>
            <a:ext cx="3133800" cy="1292400"/>
          </a:xfrm>
          <a:prstGeom prst="rect">
            <a:avLst/>
          </a:prstGeom>
          <a:ln w="0">
            <a:noFill/>
          </a:ln>
        </p:spPr>
      </p:pic>
      <p:pic>
        <p:nvPicPr>
          <p:cNvPr id="390" name="TextBox 4" descr=""/>
          <p:cNvPicPr/>
          <p:nvPr/>
        </p:nvPicPr>
        <p:blipFill>
          <a:blip r:embed="rId13"/>
          <a:stretch/>
        </p:blipFill>
        <p:spPr>
          <a:xfrm>
            <a:off x="3090960" y="981000"/>
            <a:ext cx="6156360" cy="129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41440" y="1963800"/>
            <a:ext cx="80611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GActionplan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0065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15228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Goal: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Power and consistency of chest pa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Timescale: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4w of 3 x 30 min session per wee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Coaching Points: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W.  Body weight, ball rotation, transfer of weight, extend arms,1 foot in front of 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Drills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 on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irs moving arms as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ving footwork dr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iving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x 2  10 p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 x 3  10 pass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ll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 + post testing/perce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TextBox 3" descr=""/>
          <p:cNvPicPr/>
          <p:nvPr/>
        </p:nvPicPr>
        <p:blipFill>
          <a:blip r:embed="rId6"/>
          <a:stretch/>
        </p:blipFill>
        <p:spPr>
          <a:xfrm>
            <a:off x="4919760" y="2882880"/>
            <a:ext cx="3840120" cy="129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Glocalandnational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59840" cy="9334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798120"/>
            <a:ext cx="82296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SFC competitions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ldham sports cen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ldham Club – good coach/co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W high perf – advanced skills/abilities.  Onto England.  Long and short squad.  Intern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nance – car wash, bagging, spons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TextBox 3" descr=""/>
          <p:cNvPicPr/>
          <p:nvPr/>
        </p:nvPicPr>
        <p:blipFill>
          <a:blip r:embed="rId8"/>
          <a:stretch/>
        </p:blipFill>
        <p:spPr>
          <a:xfrm>
            <a:off x="4505400" y="4863960"/>
            <a:ext cx="3803400" cy="129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0:06:28Z</dcterms:created>
  <dc:creator>Scott  Chapman</dc:creator>
  <dc:description/>
  <dc:language>en-US</dc:language>
  <cp:lastModifiedBy>harria</cp:lastModifiedBy>
  <dcterms:modified xsi:type="dcterms:W3CDTF">2009-08-12T13:52:29Z</dcterms:modified>
  <cp:revision>13</cp:revision>
  <dc:subject/>
  <dc:title>G452 AS Practical EPIP</dc:title>
</cp:coreProperties>
</file>